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1CE-3C02-4DD3-B229-BFDBE1AA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5E2-1ECD-4154-AA38-82C98046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8AF-85E1-42F1-83A4-975ECB43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9C7-5B5B-4A93-93D8-D970210A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9F4E-174F-4F6C-9DE2-FFFABC59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FEDA-80C5-46EE-B1CF-B733A498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CCF3-8BEA-4FDB-AB7C-1C970E25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B1D-AD39-43ED-9733-CA8C5539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2356-F14D-454E-AE4F-AC58A787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2C9-3DC2-4259-81AB-B5B0FB35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D34-BA09-4741-98A4-5F2B6BE5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0B8-BAAC-4A5E-9670-D37BA6E3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696A-0B6B-4AEB-BE2E-4775A2CCC5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F830-59C8-496D-B5C0-FD8F4CBB05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нтиляция и пневмотранспорт перерабатывающих предпри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C:\Users\dima\Desktop\osobennosti-promyshlennoy-ventilyatsii.jpg"/>
          <p:cNvPicPr/>
          <p:nvPr/>
        </p:nvPicPr>
        <p:blipFill>
          <a:blip r:embed="rId1"/>
          <a:stretch/>
        </p:blipFill>
        <p:spPr>
          <a:xfrm>
            <a:off x="0" y="3559320"/>
            <a:ext cx="3240000" cy="3298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C:\Users\dima\Desktop\osobennosti-promyshlennoy-ventilyatsii.jpg"/>
          <p:cNvPicPr/>
          <p:nvPr/>
        </p:nvPicPr>
        <p:blipFill>
          <a:blip r:embed="rId2"/>
          <a:stretch/>
        </p:blipFill>
        <p:spPr>
          <a:xfrm>
            <a:off x="3276720" y="3559320"/>
            <a:ext cx="3240000" cy="329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:\Users\dima\Desktop\osobennosti-promyshlennoy-ventilyatsii.jpg"/>
          <p:cNvPicPr/>
          <p:nvPr/>
        </p:nvPicPr>
        <p:blipFill>
          <a:blip r:embed="rId3"/>
          <a:stretch/>
        </p:blipFill>
        <p:spPr>
          <a:xfrm>
            <a:off x="5904000" y="3559320"/>
            <a:ext cx="3240000" cy="329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C:\Users\dima\Desktop\pnevmotransport111.jpg"/>
          <p:cNvPicPr/>
          <p:nvPr/>
        </p:nvPicPr>
        <p:blipFill>
          <a:blip r:embed="rId4"/>
          <a:stretch/>
        </p:blipFill>
        <p:spPr>
          <a:xfrm>
            <a:off x="0" y="0"/>
            <a:ext cx="3564000" cy="2298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:\Users\dima\Desktop\pnevmotransport111.jpg"/>
          <p:cNvPicPr/>
          <p:nvPr/>
        </p:nvPicPr>
        <p:blipFill>
          <a:blip r:embed="rId5"/>
          <a:stretch/>
        </p:blipFill>
        <p:spPr>
          <a:xfrm>
            <a:off x="5580000" y="0"/>
            <a:ext cx="35640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96472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сь воздуха и продукта (с заданной концентрацией продук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) транспортируется к месту назначения и поступает в разгрузи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. При входе в разгрузитель воздушно-продуктовый поток резк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яет свое направление, его скорость уменьшается в нескольк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. В результате этого продукт, отделившись от воздуха, оседает 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но разгрузителя, откуда при помощи шлюзового затвора выводи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жу. Воздух, отделенный в разгрузителе от продукта, поступа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воздухопроводу в установку для очистки воздуха (циклоны, ру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вный матерчатый фильтр). Пыль собирается в пылесборниках пы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отделительных установок и при помощи шлюзовых затворов вы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ится наружу. Чистый воздух, пройдя вентилятор, выбрасывае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атмосферу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CBC6-5B57-4D05-ADE0-C3137C9E61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179280" y="4724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96472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асывающие ПТУ дают возможность соединять в одну систе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 (на один пылеотделительный блок и вентилятор) сложную се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ктопроводов: принимать продукт от нескольких единиц (до де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яти) оборудования с транспортированием в заданные пункты раз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з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гнетательная ПТУ (рис.33,б) работает при избыточном дав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нии воздуха в продуктопроводе. Вентилятор нагнетает воздух 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ктопровод, куда при помощи специального загрузочного уст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йства подается продукт. Воздухопродуктовая смесь перемещае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месту назначения, поступает в разгрузитель, где продукт отделя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тся от воздуха и выводится из систем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аботанный воздух после очистки выбрасывается в атм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у. Нагнетательная установка позволяет перемещать продукт 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ительные расстояния. Кроме того, в таких ПТУ может быть при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ена разветвленная сеть продуктопроводов с адресной подаче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кта в несколько точек разгрузк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112A-4243-4A26-82D8-0E20130B67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Заголовок 1"/>
          <p:cNvSpPr/>
          <p:nvPr/>
        </p:nvSpPr>
        <p:spPr>
          <a:xfrm>
            <a:off x="179280" y="4724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1699920"/>
            <a:ext cx="896472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установках смешанного типа (рис.33,в) продукт сначал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тся по продуктопроводам всасывающей части установки, вы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ется в разгрузителе и через шлюзовой затвор подается в пр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ктопровод нагнетательной части. В смешанных установках пр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кт из разных точек загрузки может быть подан в несколько точе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груз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величине перепада давления в системе ПТУ условно делят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я на установки низкого давления, в которых потери давления в се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 не превышают 5 кПа (500 мм вод. ст.); установки среднего дав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ния, в которых потери давления колеблются в пределах 5...10 кП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о 1000 мм вод. ст.); установки высокого давления с потерями дав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ния свыше 10 кП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счете установок с перепадом давления в сети более 10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Па во избежание грубых ошибок необходимо учитывать термоди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мические свойства воздух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49C9-E4B0-4571-BC93-5B2965D070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179280" y="4724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708000" y="2852640"/>
            <a:ext cx="514836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.34. Пневматический подъемник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 – разделитель; 2 – трубопровод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– пористое дно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– смесительная камер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– регулировочно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ройство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– винтовой питатель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– загрузочный бункер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невматическим подъемником (аэ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ифтом) принято называть установку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гнетательного типа, работающую п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ципу «транспорт сплошным пот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». Материал перемещается в аэрир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нном состоянии в виде воздушнопр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ктовой смеси высокой концент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F656-0818-452B-99DA-7D36FC157F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179280" y="4724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3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699920"/>
            <a:ext cx="896472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поступает в загрузочный бункер 7 и далее через регулир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чное устройство 5 винтовым питателем 6 подается в смеситель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ю камеру 4. В камере материал подвергается аэрации воздухо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упающим через пористое дно 3 под давлением (0,5...1,2)10 5 П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ля тяжелых и абразивных грузов – до 310 5 Па) и транспортирует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я по трубопроводу 2. Для обеспечения неразрывности пото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спортируемого груза у разгрузочного конца трубопровода ста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ят специальное устройство – разделитель 1 (заслонки, клапаны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фрагмы), иначе по мере нарастания скорости воздуха и соответ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венно падения давления возможен разрыв столба груза. Процес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спортирования сплошным потоком осуществляется за счет си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ы, возникающей при прохождении воздуха через массу переме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аемого груза. Этот вид транспорта отличается большими концен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циями: до   = 300...60 при малых скоростях 0,4...3 м/с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оинства пневмотранспорта сплошным потоком – относи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но меньший удельный расход энергии, меньший износ труб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а, меньшая повреждаемость груз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статки – ограничение длины транспортирования и боль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е сопротивления при включении в транспортерную установку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бопровода с коле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4D83-99FC-439E-9FE9-40622526F8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179280" y="4724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699920"/>
            <a:ext cx="896472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.2. Загрузочные устройства (питатели) ПТУ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рузочное устройство ПТУ включает: загрузочные устройст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 (питатели); транспортирующие и вентиляционные трубопроводы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ройства для отделения продукта от воздуха (отделители, разгру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ители); герметизирующие, запорные устройства (шлюзовые затв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, клапаны); воздуходувные машины (вентиляторы, компрессоры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ройства для очистки воздуха от пыли (циклоны, рукавные фильт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, установки мокрой очистки воздуха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и требованиями, предъявляемыми ко всем составны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ям пневмоустановок, являются надежность, удобство монтажа 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луатации, минимальная энергоемкость, герметичность системы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шумность работ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рузочные устройства (питатели) ПТУ обеспечивают дозир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нную подачу сыпучих продуктов в поток движущегося в трубопр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е с определенной скоростью воздуха, чем обеспечивается тре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емое соотношение груза и воздуха, т.е. концентраци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4104-1DFD-4093-A8DF-98C900B0B7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Заголовок 1"/>
          <p:cNvSpPr/>
          <p:nvPr/>
        </p:nvSpPr>
        <p:spPr>
          <a:xfrm>
            <a:off x="179280" y="4724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699920"/>
            <a:ext cx="896472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атели делятся на загрузочные устройства всасывающих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гнетательных установок и установок аэрозольтранспор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сасывающих ПТУ при поступлении продукта снизу ввер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яются различные конструкции загрузочных устройств, основ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ые схемы которых представлены на рис.35. Загрузочное сопл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ис.35,а) состоит из двух труб: внешней I для воздуха и внутренне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 патрубка 2 для приема продукта с потоком воздуха. Переносн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пла такого типа применяются для перемещения продукта из лю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й точки насыпи, например, при разгрузке зерна из барж в верти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льные силосы. К пневмотранспортной системе сопла подсоединя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тся с помощью гибких всасывающих рукав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рузочные устройства (рис.35,б, в) служат для подачи пр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кта по патрубку 1 в продуктопровод 2 в смеси с воздухом, посту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ющим через входной конус 3, снабженный тканевым фильтр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.35,г представлена схема отбора продуктов размола 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ки из поддона 1 размольного станка в продуктопровод 2. Заслон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служит для регулирования концентрации смес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C894-537D-4E75-A532-75215F4F47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179280" y="4724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699920"/>
            <a:ext cx="896472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DA3D-773C-4B4E-A64E-641A90C78F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179280" y="4724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96472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гнетательных ПТУ невысокой концентрации, работающи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изком и среднем давлении, нередко применяются инжекторн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арабанные питатели (шлюзовые затвор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5CFE-92E4-435B-9D97-F03BBE852A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179280" y="4724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3480" y="1413000"/>
            <a:ext cx="91105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896472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цип действия питателя инжекторного типа (рис.36,а) ос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вается на создании в зоне загрузки продукта в трубопрово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вления, которое несколько меньше атмосферного. Это необходим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, чтобы продукт из промежуточного бункера, находящего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атмосферным давлением, беспрепятственно поступал в продук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провод, исключая возможность выхода из него воздух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люзовые (барабанные) питатели (рис.36,б) широко приме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яются в ПТУ как запорные устройства для герметизации отверсти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используются для выпуска сыпучих продуктов из разгрузителе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аратов очистки воздуха и из емкостей, находящихся под вакуумом. Эти затворы могут работать при разности давлений в зонах д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0...80 кП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люзовой питатель представляет собой корпус 2, внутри к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рого вращается ячеистый барабан 3. Продукт поступает в прием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ю воронку 1, заполняет ячейки вращающегося барабана и через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грузочный патрубок 4 выгружается в продуктопровод. Зазор ме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ду корпусом 2 и барабаном 3 устанавливается не более 0,05 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F710-97CC-4FE9-A62D-FF8775309A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Заголовок 1"/>
          <p:cNvSpPr/>
          <p:nvPr/>
        </p:nvSpPr>
        <p:spPr>
          <a:xfrm>
            <a:off x="179280" y="4724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ЛАН ЛЕ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2060640"/>
            <a:ext cx="849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ПНЕВМОТРАНСПОРТНЫЕ УСТАН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1. Общие сведения о пневматическом трансп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.2. Загрузочные устройства (питатели) П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.3. Разгрузители П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A96F-0DAC-4165-94AA-69754CBBE6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896472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.3. Разгрузители ПТУ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грузители служат для выделения транспортируемого пр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кта из воздушно-продуктовой смеси и направления его для даль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йшей переработ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установках всасывающего типа воздух в разгрузителях нах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тся под разрежением, поэтому выпуск продукта из разгрузител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ится через шлюзовые затворы или клапаны, исключающ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подсоса атмосферного воздуха в систему. После раз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зителя воздух направляется по воздухопроводу на очистку (ци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оны, фильтры) и затем вентилятором выбрасывается в атмосфер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гнетательных установках воздух в разгрузителе находи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и под атмосферным давлением и особой герметизации н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B76E-8B1A-485B-8C05-B5AEE71F23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179280" y="4724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6720" y="2636640"/>
            <a:ext cx="388800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установках аэрозольтранспорта не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чительное количество перемешаемог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духа часто позволяет обходиться без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ециального  разгрузителя  и  подава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есь непосредственно в бункер с выпуско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духа через небольшой фильтр в атмо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ф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7E34-577B-4999-A9C8-54DFEA557A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179280" y="4724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79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1989000"/>
            <a:ext cx="896472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бъемном разгрузителе – цилиндрическом резервуаре диаметром в 8…10 раз больше диаметра трубопровода – разделение смеси воздуха и продукта достигается при значительном (до 0,2 м/с) понижении скорости. Вследствие этого из смеси под действием сил тяжести выделяются частицы продукта. На рис.37 представлены схемы разгрузителе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метр объемного разгрузителя можно определить из условия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соответственно скорости воздуха в разгрузителе, ви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ния частиц продукта и воздуха в трубопроводе на входе вразгрузитель. Тогда можно рассчитать диаметр разгрузителя п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3B70-DC58-49CF-946C-0116912472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Заголовок 1"/>
          <p:cNvSpPr/>
          <p:nvPr/>
        </p:nvSpPr>
        <p:spPr>
          <a:xfrm>
            <a:off x="179280" y="4724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835280" y="5084640"/>
            <a:ext cx="5292720" cy="1355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2484360" y="2349360"/>
            <a:ext cx="4494240" cy="1281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1096920" y="2798640"/>
            <a:ext cx="147636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ля всасывающих рукавных фильт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42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рисос воздуха в батарейном циклоне с шлюзовым затвором принимается равны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65A7-5390-470F-8DE2-943938C8F8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"/>
          <p:cNvPicPr/>
          <p:nvPr/>
        </p:nvPicPr>
        <p:blipFill>
          <a:blip r:embed="rId1"/>
          <a:stretch/>
        </p:blipFill>
        <p:spPr>
          <a:xfrm>
            <a:off x="1547640" y="1481040"/>
            <a:ext cx="5185080" cy="811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1835280" y="3213000"/>
            <a:ext cx="5868720" cy="857520"/>
          </a:xfrm>
          <a:prstGeom prst="rect">
            <a:avLst/>
          </a:prstGeom>
          <a:ln w="0">
            <a:noFill/>
          </a:ln>
        </p:spPr>
      </p:pic>
      <p:sp>
        <p:nvSpPr>
          <p:cNvPr id="127" name="Заголовок 1"/>
          <p:cNvSpPr/>
          <p:nvPr/>
        </p:nvSpPr>
        <p:spPr>
          <a:xfrm>
            <a:off x="503280" y="4437000"/>
            <a:ext cx="864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двухступенчатой очистке воздуха последовательно в батарейных циклонах и рукавном фильтре общий расход воздуха в аспирационной сети рассчитывается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826920" y="5445000"/>
            <a:ext cx="7459920" cy="8319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8"/>
          <p:cNvSpPr/>
          <p:nvPr/>
        </p:nvSpPr>
        <p:spPr>
          <a:xfrm>
            <a:off x="3221280" y="324468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4. Разгрузители П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916000" y="2205000"/>
            <a:ext cx="5832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а батарейных циклонов типа У21-ББЦ предназначены для очистки запыленного воздуха, поступающего из аспирационных и пневмотранспортных сетей хлебоприемных и хлебоперерабатывающих предприятий. Батарейные установки изготавливаются по I категории ГОСТ 15150 в климатическом исполнении «У». Батарейные установки изготавливаются десяти типоразмеров в четырех исполнениях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 выбросом очищенного воздуха вбок и вверх с двумя типами привода шлюзовых затворов каждый. Привод блока шлюзовых затворов может быть от электродвигателя и редуктора или от мотор-редукто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8D6D-366B-413F-A2AD-3082684265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395280" y="0"/>
            <a:ext cx="83487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270036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F6A6-A56C-4764-B145-4AAB96BC41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395280" y="2133720"/>
            <a:ext cx="8424720" cy="17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699920"/>
            <a:ext cx="896472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невмотранспортные установки (ПТУ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назначены для перемещения сыпучих или штучных грузов по трубам или воздушны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обам с использованием сжатого воздуха или разреже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ТУ для сыпучих продуктов можно транспортировать зернистые, порошкообразные и кусковые материал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зерно, мука, комбикорм, соль, мел, цемент и др.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ТУ для штучных груз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назначены для перемещения по трубам с помощью сжатого воздуха специальных капсул или патронов, в которые укладываются мелкие детали, документ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невматическая почта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34AB-5C56-41A7-A94F-2F9619C59A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0" y="260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1. Общие сведения о пневматическом транспо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179280" y="4724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96472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12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К преимуществам ПТУ в сравнении с конвейерным транспортом можно отнести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озможность применения сложных транспортных трасс значительной длины;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низкую металлоемкость и простоту в эксплуатаци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сокий уровень автоматизации процесса транспортировки;</a:t>
            </a:r>
            <a:br>
              <a:rPr sz="2000"/>
            </a:br>
            <a:r>
              <a:rPr b="0" lang="ru-RU" sz="2000" spc="-1" strike="noStrike">
                <a:solidFill>
                  <a:srgbClr val="7575d1"/>
                </a:solidFill>
                <a:latin typeface="Arial"/>
              </a:rPr>
              <a:t>- создание удовлетворительных гигиенических условий в помещениях из-за герметичности и бесшумности системы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хлаждение, подсушивание и проветривание продуктов (на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, у зерна на 1-1,5% снижается влажность, уменьшается зараженность клещом; у муки улучшается хлебопекарные свойства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К недостаткам  ПТУ  относятс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ая  энергоемко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4-6 раз больше, чем у механического транспорта) и повышенны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нос при транспортировании абразивных грузов с высокими скор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F820-2317-4CF0-991C-4CD2619D75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179280" y="4724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96472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Принцип действия ПТУ для сыпучих продуктов транспортирующий груз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а) в потоке воздуха по трубам во взвешенном состоянии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б) методом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аэрации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т.е. насыщения воздухом сыпучего продукта, приобретающего при этом свойства жидкости (псевдоожижение) и текущего по наклонному желобу под действием гравитационных сил (аэрожелоб);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) по метод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люидизации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, когда насыщенный воздухом сыпучий материал приобретает высокую подвижность, обеспечивающую возможность перемещения продукта по трубам под действием давления сжатого воздуха (пневматический подъемник – аэролифт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4EFD-C937-4915-921B-3DEF0F4725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179280" y="4724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96472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По характеру работы продуктопроводов и месту их в схеме различают: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всасывающие установки, в продуктопроводах которых создается разрежени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- нагнетательные установки, в продуктопроводах которых создается избыточное давлени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установки смешанного типа, представляющие собой комбинацию первых двух тип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E033-936F-49E3-9EC4-CB7D0F1F97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179280" y="4724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96472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Всасывающая ПТУ состоит из приемника, продуктопровода, разгрузителя, пылеотделителя, вентилятора и воздухопровода. Вентилятор, отсасывая воздух из всей системы, создает разрежение, благодаря которому воздух устремляется в приемник. При</a:t>
            </a:r>
            <a:br>
              <a:rPr sz="2000"/>
            </a:b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движении к приемнику (или входному соплу) воздух с определенной скоростью проходит сквозь слой сыпучего продукта и увлекает его с собой в продуктопрово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5B90-798A-4FCA-81BF-5779082E09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179280" y="4724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96472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03EA-1302-472E-A2BA-63017E4393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179280" y="4724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11280" y="0"/>
            <a:ext cx="8192880" cy="264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3284640"/>
            <a:ext cx="8739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4797360"/>
            <a:ext cx="896472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.5.1. Типы пневмотранспортных установок: а – всасывающа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– продукт; 2 – сопло; 3 – гибкий рукав; 4 – продуктопровод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– разгрузитель; 6 – шлюзовые затворы; 7 – циклон; 8 – вентилятор; б – нагнетательная: 1 - воздухозаборник с фильтром; 2 – вентилятор; 3 – бункер; 4 – продуктопровод; 5 – разгрузитель; 7 – инжекторный питатель; в – смешанная: 1 – продукт; 2 – сопло; 3 – гибкий рукав; 4 – всасывающий продуктопровод; 5 – воздуховод; 6 – циклон; 7 – шлюзов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воры; 8 – разгрузитель; 9 – напорный продуктопровод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– инжекторный питатель; 11 – вентиля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94AB-02FD-4298-BC12-50083D9DCE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179280" y="4724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058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5:19:47Z</dcterms:created>
  <dc:creator>User</dc:creator>
  <dc:description/>
  <dc:language>en-US</dc:language>
  <cp:lastModifiedBy>Пользователь</cp:lastModifiedBy>
  <dcterms:modified xsi:type="dcterms:W3CDTF">2018-09-21T06:25:33Z</dcterms:modified>
  <cp:revision>182</cp:revision>
  <dc:subject/>
  <dc:title>АВТОМАТИЗАЦИЯ ПРОИЗВОДСТВ В ПИЩЕВОЙ ПРОМЫШЛЕННОСТИ</dc:title>
</cp:coreProperties>
</file>